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DCA5-49F4-4665-8D5D-45E5DE40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39F2-1E06-4851-85B5-3DA94CBC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06F9-4369-4DDA-AF9F-1D7197D0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F3F8-4F9A-4599-BA9F-15565853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B4F9-8BD4-4E57-B0D3-F08693A5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013-B99A-4C66-8EE4-55B0DEBF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4E7-B90F-468D-8A3C-02B5E9F6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759-F520-4A8D-905D-E8EA8414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EC7-D7CE-4D2F-831D-814CC440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272-3477-4FEB-B25C-773F1026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916-265C-467D-A18A-1EB21BE7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3BA-57A1-4128-A0AF-82E74964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3E4E-530B-4270-AB35-246A7076B14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3564000" y="256536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 PC</cp:lastModifiedBy>
  <dcterms:modified xsi:type="dcterms:W3CDTF">2015-09-06T06:56:00Z</dcterms:modified>
  <cp:revision>810</cp:revision>
  <dc:subject/>
  <dc:title>Free PPT Backgrounds</dc:title>
</cp:coreProperties>
</file>